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F9A-4277-4B1F-934B-685FAD71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303-7FA6-47A3-A38A-5AA61AC7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32A4A-118F-4AB5-AA68-616A3C9A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58C6E-EBC6-47BB-9738-00BD0141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7823F-1C0E-4349-8F65-BEAE2967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8F300-A375-48F7-B3BD-EC10FA7C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86CEB-AED9-489B-853C-F6EE8B5E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69C03-21C3-47A1-B754-DD7B4505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7DF77-C772-4944-A9AC-4F2234EA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DF940-5280-4705-B374-248F85DB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62A05-CD1E-46B5-A2AA-9E418C58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1ED32-FB5F-4BFD-AEA8-67DED9C0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E876-3ECE-468E-A332-7417AD11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86175-0B78-46C1-9DE2-7E226485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7FE98-DB7D-4936-A3FF-A1BCC92C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E5B59-8802-40B6-8B09-7E1267B2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F5C2D-CDDC-4865-A81C-4B084C93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49FBA-851A-44D3-A28E-D8A14E42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42C31-0676-4059-86B7-1A21E848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0CB95-BCFF-4B73-A1ED-04AC6B44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DA87D-01BE-4058-921E-F8BBEB71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9F807-D564-4D83-83B2-74E8C002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C765D-C7BD-4071-8598-374014DB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15B-6E17-4CCD-AEC2-2A0509CB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9CF6E-25F5-44B9-AFD3-4A2CE581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3E17F-8359-4533-8ABD-264D2043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B6B74-7DB4-4E06-9991-96228AC2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4E325-26D3-4752-9E25-08D1A1EF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DDC9B-A33E-402A-80E4-206F1F53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118F1-058C-4111-8C95-39C864FE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D4417-D268-4E20-9F5F-3146656B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33A66-4355-49E4-BDA8-D5BC9D6B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E8125-0AE9-4CC4-9A3B-C365C6C0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CFF93-56BD-43F8-B210-71AC7946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7C0F-79CA-4A91-87AC-D5DC2C61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A6A00-50B8-41D6-B769-78DCCDD6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AD207-1352-404E-AA8D-168CAA55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BAAF1-3FF8-4757-AB48-16F0963D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B5813-5342-4988-8ED1-ACE73C7A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BEA08-A104-49AD-9AD3-75F63AC1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68582-C809-4107-A53F-B7486D9D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D2F92-8B08-4AB0-A039-4A9247FD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670E1-E7F2-4E81-ABBB-17F138C9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675D0-0623-4158-A8BD-9531ECCA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1FEF9-916D-4690-B3D5-F8AC11AD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7BBD-BE4B-4C35-8716-572B9F53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D6ED6-676B-44A7-8629-5ABDD03F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CDBE9-F86B-4B7E-809C-CF19BEF9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76F25-1B11-44BC-A073-BFEBA828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EE6BB-19F4-4611-AF87-9352AED1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B3A47-FDD6-422D-AB76-16660372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80268-1C9D-4443-B662-ACE8544A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2D97CE-5950-40ED-B3A4-2A10339C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63A5D-6692-44EF-9474-7A090659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F1924-1261-4F12-9B5D-F49D337C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94FB4-74CD-4D92-B443-D31D5F36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325E-0FAF-46C1-A726-F217F939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609C3-664C-4670-9FDC-7FF7EDC0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910E5-46C6-49B4-B23A-BFF04936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20CA0-3E4D-40BE-819B-A76C9EA4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44C3A-D3E6-4BF9-A687-899671E3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907B9-94A9-4A61-8E5E-2AC6F974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FA0A6-5F10-4A1C-B282-38B455F7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BCEAF-0D56-43A5-9CAC-A777BE86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583AE-C403-4D88-A59F-7EA0E7D6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BB953-65B6-4741-BCDC-F61CA9FB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DBC24-C64E-488E-B55A-515EBDCB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C3D3-EB01-4B78-9F8C-50FA6B1A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9508F-D376-44EB-A534-AE353284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D9090E-FD07-4086-8EA4-5FF81B4C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13D2C2-8FFC-4154-8EF3-A99D8B92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2CB145-FFE1-4EF2-9877-DA1FD61C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0A433-C72F-41D4-8783-E9C3ABF6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55C39D-243C-4D0D-BE49-A88A8C1D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2F964A-D026-40FD-B699-0F508C9C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ED885-E303-4E4C-86FF-566F4DFC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EDA91F-1E64-41C4-9B74-5FA92BC6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44E577-515A-4DFE-A46B-8B261822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0532-87ED-4D7E-8FF2-421546FA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2E514-6D18-473F-83BD-7A07948E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B083F3-2363-428F-8CA7-293C139C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D11D91-CC2A-4D0A-9109-651935FF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2A3582-3412-40E9-B1D9-739568B8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44CF28-E677-48B2-8A41-626C19C3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82B268-6E97-43AE-9644-02E7F342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53481-CAD6-49BE-AE43-985969BD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FD545F-CCB9-4E0D-AF0C-00CC09A8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B6B96A-7B8B-4155-BB57-AB8EE4FD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5B503D-A768-4FEC-9066-537D2E5B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D615-1FEA-4C0A-9D54-B5C913B0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E899B2-CA9A-4210-B280-D6FCAA8D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282EBD-1B73-456C-AED9-EAA04375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69F26B-8A52-4E45-99A9-472C1C20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0F72E-8D3C-4E99-941E-A56D2297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98E79C-BC8F-4FC5-BC6C-394352BA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B6C6AC-D057-4E3F-BFDF-2D1A3807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AD6E44-42C4-4AE8-AA21-32835928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D7FB3E-6B13-454C-8F50-33DE28F0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25040B-F10E-486F-A43F-6590E2EA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F32896-6B60-4C9C-8191-F95341CA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3C47-0A7A-45EC-8DEB-54BB9007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B79099-0B7D-4654-BAB1-7FB75EF0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1A578F-4328-4DC0-BD2C-D7C34150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941C1C-F3BB-4586-850D-52805EBF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DC0EC7-C4DE-4F50-8F57-D6A04F35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A9A1A3-A4A8-4A81-A138-C30FE4FD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210076-9D2C-48D1-8FC9-A50A84DE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1324F6-E3E6-4867-A82E-68FB517E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75E6EF-566B-45F4-BB91-095F7B3B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8B333A-1ADD-441F-AD3D-A15CAE96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8C0012-93BC-4EFA-A937-B3B99501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3DE-82EA-4E21-ABF4-B3C3C7DB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157C-AC0E-4C2A-8012-4A911BFA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45C81E-69E8-496C-B312-2B0AF10B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4C8E6-9518-4167-90B5-71A458DE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98F4CE-750F-4B7A-8130-F0EEDD9D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5D5F14-2F41-4F6B-B275-E6D65556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2ECFC-BF67-4DEC-964C-D2C84BC5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CCD25B-5075-4535-9CE1-DD3E3DFD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FB579B-7810-48A8-B868-58CEE3B0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E01DE0-6654-4CD2-B6D9-E0D63CA3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9A9AFE-5512-47B3-A764-9FF4AC7E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982194-1751-4C2D-926E-E6556361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6181-14DF-4BDD-85CD-4F89C380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C76FAC-5745-47A3-A21B-568630DE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F91356-E6A7-43DD-906E-83B18A26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7727E6-9672-4EF2-9859-88AF804D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B55F5F-39F5-45F7-81E9-74E9AA82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E44B54-BA6D-4E42-8A76-9C123F79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6A3C2C-2EB0-4317-AF19-A923EF7E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08EC56-310A-432D-B760-245AA4EC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2B015E-1AA3-4D6E-896D-BF720DD1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997F03-7195-46F8-B6B6-6308EB25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C4ED93-8925-4611-9185-3BF7FD7C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F9A9-1F35-4FF6-95B9-5B5C9FFF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512A8A-CD2B-442A-87A4-B470051B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CAD17E-49E1-4368-902E-1C8308DA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872F0F-D70D-4EBC-8383-545E33AF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AAD731-CFBA-44A8-8502-4DC63548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04AB23-FB55-4F70-8087-B86F8E35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A982FE-3E92-478F-8737-0FE5A81A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ECF247-71BB-450A-B92E-810E5128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62E3CA-887E-4466-BD26-81B3ABC8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B05FD6-2093-4BE9-851E-C46C9E3A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7A4A52-C80D-47F5-BEA3-4C69FE4A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FB53-FF70-4209-80DE-7A0AAD5A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CB321-E377-43DF-89E1-5D99CDC6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820D27-4A7C-460D-B044-48CDE436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4BF8FB-9ADE-457C-9E04-C81CFF03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CF467D-435B-40AC-BE16-B4EE5825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5D2943-A641-4F55-868B-EE0A44A1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B2B8CE-31EA-4D8F-A9D4-947069E5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497FAC-9C93-4172-8DC4-8F8E8FB8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5C6F1F-901B-4175-9C67-C0D7B1F3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B77E25-3F01-4BF5-BEE3-2CDACC0A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67B7FD-3D9D-49BA-A4D4-645B1969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85B5-913A-4689-9F87-C5FF7914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B280A1-35F1-4F5F-9E47-AA510980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F3C66C-8613-4A73-9B53-0DA1F640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BA8864-D509-447F-A5ED-E01781C0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B262EC-E0BB-48FB-84CD-4C5A596F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643836-657C-4DB8-8A9B-3FFBAAC1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FB059C-724E-4BD2-90B5-9C38FB14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6E06C2-2031-483B-88AB-F4E40299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6C5116-1CFA-44E2-B134-E096310E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0F5B9E-C67F-4C25-8961-7EF1E774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1C3C7D-0152-40A9-9A59-0CA711EA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38B14-1532-4FC4-A9BC-B8AFE749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EC8362-5FD3-4E49-A5CB-95D41342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C5A643-1748-411E-BBF9-3B46BA30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8A0E82-920C-49FC-B570-FB6D1F24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A528A-3800-4CF6-9E36-465CABB8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A4757-F21B-45E5-80AC-E4C2AC6B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8DB46-F508-44F1-BC25-61EB40FA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533EB-401C-4183-9D12-15FD4B1E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1B6-B11F-46E6-A525-8D73D0EC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A9654-02A1-4F68-99D0-31214DC7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0FF2F-565A-4941-B594-8854D049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1FF0A-B434-49D5-A8BC-43FC8382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32CEB-BD01-415C-91EB-0439441D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E0319-2DEA-4E38-A9BF-7BD3083A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A9B8D-B671-44D6-A7E8-10CB026C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88B16-73C3-4F5E-B7B9-8E59A655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7F4A7-6084-4F21-B4CC-354CB73D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82E20-4D1F-4157-8C2F-F1B7D105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3E612-540F-4387-BB86-988EACD6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BEBC-B0DD-4105-B777-C79BD44C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D7781-7EEF-4A18-AF01-FD4F6784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017CF-462D-4A02-AAD7-F6284938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ABACB-B8C2-4E09-8443-66C73B87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DBC4F-FD71-43F0-9963-8CBEEBC2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5346A-446E-45A0-9BB9-5EEFCFBF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6978B-366C-417E-91AD-38654CF3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C0967-F315-4F99-B85B-1217E97D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B32FE-ADB6-4F29-BD7D-EE2FCE5F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D7E0A-8DAA-4FC7-BED0-F414860C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17D93-20CF-49E9-AAC9-A6A6C603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FD6-3C95-4F9C-8621-3D084C11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092F7-09B0-42A7-9238-2687718E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5611F-A9A7-41E1-9F76-EBF65E8F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99F17-8494-407F-A660-61CC217A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7D247-BABE-45A6-936F-25E625FA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AF0A1-5310-4B83-B658-251DB105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FE7AF-7FFC-4289-A9FF-9D15A618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53E7B-0E98-4A15-8DE4-920D3852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C9945-523E-4BD7-981B-A0AC737A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8AD1E-9665-4F0A-9691-7B007FA2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B0443-C691-4EB3-8A13-1C825D2B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956-1166-46BE-A3A5-739B82E1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90C84-2EFA-40AB-8EA8-32DC90B2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76ECD-71EF-4AEF-83DF-FE803B3C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EA212-E644-4487-8307-000E1607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0ACE5-6CD2-4F53-8FD5-7D473484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D4012-A61C-4C5A-A39A-A65303AB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E09F2-16D1-4746-8A3D-B516397D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8F8E2-46BB-4917-9005-C213CA84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386F1-E8A4-4584-83CF-5BC019DE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7FD85-1B9C-4101-9291-FA5695E4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E2E60-3030-4F12-9C3D-8EF4902D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D555-B0DB-4409-84CA-F478AB84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B7FED-B908-404D-BCEB-46ACC4D1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DA1CE-E3D1-4214-B138-21F0ED7C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EB019-DC7A-449F-9DD9-0E762683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8193F-EB6C-492D-909E-CBFB8534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BFDAD-DA8A-4E45-978E-B1593F81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24359-04A7-479D-BF08-C12690F2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DD1B1-EBD7-4483-9EA5-0C89D02F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84F31-EFA6-4706-93BC-3CDF9A57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B8D86-EDDA-4ADE-B387-B9A68144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E36FD-101A-43CC-A833-6734F0E7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BA8-8CD6-43F2-B17B-3BF0D6E6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FC47E-5AB1-40B1-8244-06557C9E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F6C48-C6C4-47F8-9860-789A8A7C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E5065-0B07-4829-A14C-70D29D27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F3667-C1C6-4D4A-8BBD-8916AA67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0381A-13ED-4E06-BC4E-00F3D199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50131-FDA3-4AE2-92E1-5EA1DA22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7C8A2-A5A3-48FF-80ED-7CFAD9E3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8F2FF-918F-48A0-B858-D479512B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CBE1C-9317-442C-923F-6DAB31C9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FE846-961A-4509-9ECD-69B5D4EC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0A22-799B-4505-B271-1F9AFB9D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D07C2-A524-4164-A89A-12BCD68C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4D0B7-B8ED-4D4E-88AF-5BC9C5D3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511A3-D78D-4B42-BCA8-73A28F02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83C83-60B9-4468-A38D-2D60E8F7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0A1A6-CD31-468A-923F-A646DEEF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D07CD-9502-4205-B18E-D5E20B9E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531F9-093B-4BE4-B5E3-D9E8F5D3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74ADD-3C89-4160-A3F9-3589D4DE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D8ED7-FF90-4B95-B52F-2D7182F6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7162A-E130-4BFF-B539-42FD3A9E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AD8C-00A2-4149-86A8-63E2412CC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8CCB-7E2C-4534-AAFE-1F6397A3DA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9A0E-C90E-48C7-BAD4-53C70C0087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67BE-9BCA-47C8-A1FF-5FC04020C8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33D5-BE72-4F51-9498-24347D6102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AF3D-9B7F-4639-974E-14B3A1458A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3442-63AA-4AD7-B5B8-2CFE9CF129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AE72-8CBE-48C1-A1C8-6A50699375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A21C-FA8A-4FF5-8EC6-78C1EA4014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DA85-7F99-4C5F-83F4-C312B11B94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65C8-27D6-4FC8-A2F0-4C0CC1D31C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109F-A5A8-47D6-9D7E-047C41514A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D312-4999-48FF-9B44-C2950C23B9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5497-01BB-42F1-8380-67BF558116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F1CE-C06A-409E-8206-946E8C7A37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FC6A-3D48-4AD8-8B06-F646855592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A247-0DB7-4D4F-BB66-6FCC801FEB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E0C8-227F-47B5-94A6-045AFAED85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9E4C-C9CC-4A52-A2DA-A9F2BDF501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9681-21D0-4DA4-ACC2-7F5C815B74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DAB7-A646-4465-863D-0403EE7EEF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2D14-A1A9-430B-955D-5AF0D1D695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BAA8-17AE-4ED6-B17A-621A7310CE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2B8A-4496-4B52-82CE-C986D25AB5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077F-E61B-4021-B720-E41B935ECB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5501-9EEC-494D-A967-68A84A9119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044F-E724-4BD0-93E2-BB89EE4613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90D6-C0B7-4947-A0B3-05AA16D8C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4A72-D243-43FF-9325-92C5C2F559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FD31-668E-4A30-86D8-659AA32BA2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1A76-82E9-4069-AC1D-F80C77DEA3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88D3-B30B-461A-A224-BBD2E9A254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D9F9-AF49-4E2E-A283-07D62899D2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D666-E2EA-4029-8817-0004A6F34E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D848-60A0-42D7-8392-B181AFD68E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A4D1-58A6-4317-986B-AB8D6D1174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1A29-D97D-4F36-B202-BB0E208070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CDE6-9BFC-4D98-8BC1-BD9E9E32F4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9010-A7A6-40B0-8484-EB8A27AF5A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E79B-CED4-4FB4-9FFF-7ED7C20E1E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209680" y="3009960"/>
            <a:ext cx="4724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250920" y="1962000"/>
            <a:ext cx="8040600" cy="27291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971640" y="2421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971640" y="29098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971640" y="33433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971640" y="3803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971640" y="42498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318960" y="2595600"/>
            <a:ext cx="8504280" cy="16668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8015400" y="3933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2771640" y="3933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6300720" y="3933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4500720" y="3933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1116000" y="393372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260280" y="2271600"/>
            <a:ext cx="8632800" cy="2186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914400" y="26938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900000" y="35877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971640" y="40528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171360" y="2362320"/>
            <a:ext cx="8801280" cy="21333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3059280" y="40910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4859280" y="40910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6588000" y="4149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8101080" y="414972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8:10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